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FC1-ADBD-4D48-9D71-DC9EE581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AE6-FAAF-4035-BD18-715F170C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D99-CFFD-4EB4-9187-C44B10D5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CD7-BB45-43BB-A811-4F379D08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53C-8414-4EEC-9B0D-1FA1D747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ACC-E0FF-484E-815A-15A69509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9C8-A0B0-4D0F-ABF4-F6DD08DB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002-7327-473B-A3D2-260C632F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956-0E43-4EDF-9CC6-A883A2BC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E06-983D-4484-9776-06D87C5F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1B5-CDEE-4044-ABE8-5DD34950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864-97EB-4E1A-810E-420EF75D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C1F68-22FB-48E9-AC4D-91F49E4749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imi-blog1" descr=""/>
          <p:cNvPicPr/>
          <p:nvPr/>
        </p:nvPicPr>
        <p:blipFill>
          <a:blip r:embed=""/>
          <a:stretch/>
        </p:blipFill>
        <p:spPr>
          <a:xfrm>
            <a:off x="0" y="0"/>
            <a:ext cx="3600360" cy="3419640"/>
          </a:xfrm>
          <a:prstGeom prst="rect">
            <a:avLst/>
          </a:prstGeom>
          <a:ln w="0">
            <a:noFill/>
          </a:ln>
        </p:spPr>
      </p:pic>
      <p:pic>
        <p:nvPicPr>
          <p:cNvPr id="42" name="BlogPrestamos" descr=""/>
          <p:cNvPicPr/>
          <p:nvPr/>
        </p:nvPicPr>
        <p:blipFill>
          <a:blip r:embed=""/>
          <a:stretch/>
        </p:blipFill>
        <p:spPr>
          <a:xfrm>
            <a:off x="6119640" y="0"/>
            <a:ext cx="3600720" cy="3624120"/>
          </a:xfrm>
          <a:prstGeom prst="rect">
            <a:avLst/>
          </a:prstGeom>
          <a:ln w="0">
            <a:noFill/>
          </a:ln>
        </p:spPr>
      </p:pic>
      <p:pic>
        <p:nvPicPr>
          <p:cNvPr id="43" name="blog-masmoto" descr=""/>
          <p:cNvPicPr/>
          <p:nvPr/>
        </p:nvPicPr>
        <p:blipFill>
          <a:blip r:embed=""/>
          <a:stretch/>
        </p:blipFill>
        <p:spPr>
          <a:xfrm>
            <a:off x="6119640" y="3238560"/>
            <a:ext cx="360072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blog012" descr=""/>
          <p:cNvPicPr/>
          <p:nvPr/>
        </p:nvPicPr>
        <p:blipFill>
          <a:blip r:embed=""/>
          <a:stretch/>
        </p:blipFill>
        <p:spPr>
          <a:xfrm>
            <a:off x="0" y="3059280"/>
            <a:ext cx="3600360" cy="3419280"/>
          </a:xfrm>
          <a:prstGeom prst="rect">
            <a:avLst/>
          </a:prstGeom>
          <a:ln w="0">
            <a:noFill/>
          </a:ln>
        </p:spPr>
      </p:pic>
      <p:pic>
        <p:nvPicPr>
          <p:cNvPr id="45" name="deer-blog" descr=""/>
          <p:cNvPicPr/>
          <p:nvPr/>
        </p:nvPicPr>
        <p:blipFill>
          <a:blip r:embed=""/>
          <a:stretch/>
        </p:blipFill>
        <p:spPr>
          <a:xfrm>
            <a:off x="3419640" y="3419640"/>
            <a:ext cx="3240000" cy="3033720"/>
          </a:xfrm>
          <a:prstGeom prst="rect">
            <a:avLst/>
          </a:prstGeom>
          <a:ln w="0">
            <a:noFill/>
          </a:ln>
        </p:spPr>
      </p:pic>
      <p:pic>
        <p:nvPicPr>
          <p:cNvPr id="46" name="zumo-blogs" descr=""/>
          <p:cNvPicPr/>
          <p:nvPr/>
        </p:nvPicPr>
        <p:blipFill>
          <a:blip r:embed=""/>
          <a:stretch/>
        </p:blipFill>
        <p:spPr>
          <a:xfrm>
            <a:off x="3060720" y="0"/>
            <a:ext cx="3779640" cy="341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360" y="2200320"/>
            <a:ext cx="874728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846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85640" y="1561680"/>
            <a:ext cx="87472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2009-11-23_105725" descr=""/>
          <p:cNvPicPr/>
          <p:nvPr/>
        </p:nvPicPr>
        <p:blipFill>
          <a:blip r:embed=""/>
          <a:stretch/>
        </p:blipFill>
        <p:spPr>
          <a:xfrm>
            <a:off x="1309680" y="1619280"/>
            <a:ext cx="71517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Terc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emborronada" descr=""/>
          <p:cNvPicPr/>
          <p:nvPr/>
        </p:nvPicPr>
        <p:blipFill>
          <a:blip r:embed=""/>
          <a:stretch/>
        </p:blipFill>
        <p:spPr>
          <a:xfrm>
            <a:off x="1447920" y="1440000"/>
            <a:ext cx="665136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85640" y="258840"/>
            <a:ext cx="874728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Calibri"/>
              </a:rPr>
              <a:t>COMO PERSONALIZARL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009-12-08_122523" descr=""/>
          <p:cNvPicPr/>
          <p:nvPr/>
        </p:nvPicPr>
        <p:blipFill>
          <a:blip r:embed=""/>
          <a:stretch/>
        </p:blipFill>
        <p:spPr>
          <a:xfrm>
            <a:off x="179280" y="720720"/>
            <a:ext cx="6480360" cy="4859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498560" y="2581200"/>
            <a:ext cx="521964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4" marL="2158920" indent="0">
              <a:lnSpc>
                <a:spcPct val="102000"/>
              </a:lnSpc>
              <a:spcAft>
                <a:spcPts val="28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onfiguracion + elementos de pág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Diseñ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2009-12-08_122811" descr=""/>
          <p:cNvPicPr/>
          <p:nvPr/>
        </p:nvPicPr>
        <p:blipFill>
          <a:blip r:embed=""/>
          <a:stretch/>
        </p:blipFill>
        <p:spPr>
          <a:xfrm>
            <a:off x="957240" y="1459080"/>
            <a:ext cx="7862760" cy="340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5219640"/>
            <a:ext cx="8280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ambiar los colores del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009-12-08_122834" descr=""/>
          <p:cNvPicPr/>
          <p:nvPr/>
        </p:nvPicPr>
        <p:blipFill>
          <a:blip r:embed=""/>
          <a:stretch/>
        </p:blipFill>
        <p:spPr>
          <a:xfrm>
            <a:off x="933480" y="360360"/>
            <a:ext cx="8067600" cy="4576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85640" y="5186520"/>
            <a:ext cx="8694720" cy="93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para cambiar las plantillas de tu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alibri"/>
              </a:rPr>
              <a:t>Por últim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crear una ent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85640" y="5052600"/>
            <a:ext cx="86947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009-12-08_122856" descr=""/>
          <p:cNvPicPr/>
          <p:nvPr/>
        </p:nvPicPr>
        <p:blipFill>
          <a:blip r:embed=""/>
          <a:stretch/>
        </p:blipFill>
        <p:spPr>
          <a:xfrm>
            <a:off x="1260360" y="720720"/>
            <a:ext cx="70866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85640" y="5208120"/>
            <a:ext cx="8694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si deseas pudes añadir a tu blog imágenes/fotos y ví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2009-12-08_122948" descr=""/>
          <p:cNvPicPr/>
          <p:nvPr/>
        </p:nvPicPr>
        <p:blipFill>
          <a:blip r:embed=""/>
          <a:stretch/>
        </p:blipFill>
        <p:spPr>
          <a:xfrm>
            <a:off x="1390680" y="135000"/>
            <a:ext cx="742932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2459160"/>
            <a:ext cx="874728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LGUNOS TÉRMINOS RELACIONADOS CON LOS BLO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539280"/>
            <a:ext cx="874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¿QUÉ ES UN BLO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6720" y="1618920"/>
            <a:ext cx="887400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tio web donde un autor (o varios) expone textos, artículos o cualquier otra cos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5640" y="258840"/>
            <a:ext cx="874728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udiblo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Blog hecho con elementos de so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logero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dice de aquella persona que tiene un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logosfera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l conjunto de millones de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Post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ada una de las aportaciones, anotaciones o artículos que componen un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85640" y="258840"/>
            <a:ext cx="874728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rackback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nlace directo a un post de un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eblo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labra inicial que por contracción daría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274840"/>
            <a:ext cx="87472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érmino inglé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blo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weblo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roviene de las palabr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'log' en inglés =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diari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9280" y="1573200"/>
            <a:ext cx="42688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scribió su blog personal desde 199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54000" y="1619280"/>
            <a:ext cx="3544920" cy="39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PARA QUÉ SIRVE UN BL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440000"/>
            <a:ext cx="43196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 blog sirve básicamente como diario donde todo el mundo puede ver lo que publiques en dicho di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1355760"/>
            <a:ext cx="3959280" cy="47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85640" y="258840"/>
            <a:ext cx="874728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Calibri"/>
              </a:rPr>
              <a:t>Existen distintitos tipos de blog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log%20empresarial" descr=""/>
          <p:cNvPicPr/>
          <p:nvPr/>
        </p:nvPicPr>
        <p:blipFill>
          <a:blip r:embed=""/>
          <a:stretch/>
        </p:blipFill>
        <p:spPr>
          <a:xfrm>
            <a:off x="179280" y="179280"/>
            <a:ext cx="4011840" cy="4140360"/>
          </a:xfrm>
          <a:prstGeom prst="rect">
            <a:avLst/>
          </a:prstGeom>
          <a:ln w="0">
            <a:noFill/>
          </a:ln>
        </p:spPr>
      </p:pic>
      <p:pic>
        <p:nvPicPr>
          <p:cNvPr id="59" name="blog012" descr=""/>
          <p:cNvPicPr/>
          <p:nvPr/>
        </p:nvPicPr>
        <p:blipFill>
          <a:blip r:embed=""/>
          <a:stretch/>
        </p:blipFill>
        <p:spPr>
          <a:xfrm>
            <a:off x="4859280" y="179280"/>
            <a:ext cx="4500720" cy="4140360"/>
          </a:xfrm>
          <a:prstGeom prst="rect">
            <a:avLst/>
          </a:prstGeom>
          <a:ln w="0">
            <a:noFill/>
          </a:ln>
        </p:spPr>
      </p:pic>
      <p:pic>
        <p:nvPicPr>
          <p:cNvPr id="60" name="blog%20educativo" descr=""/>
          <p:cNvPicPr/>
          <p:nvPr/>
        </p:nvPicPr>
        <p:blipFill>
          <a:blip r:embed=""/>
          <a:stretch/>
        </p:blipFill>
        <p:spPr>
          <a:xfrm>
            <a:off x="2700360" y="2160720"/>
            <a:ext cx="4175280" cy="4206600"/>
          </a:xfrm>
          <a:prstGeom prst="rect">
            <a:avLst/>
          </a:prstGeom>
          <a:ln w="0">
            <a:noFill/>
          </a:ln>
        </p:spPr>
      </p:pic>
      <p:pic>
        <p:nvPicPr>
          <p:cNvPr id="61" name="blog%20personaaal" descr=""/>
          <p:cNvPicPr/>
          <p:nvPr/>
        </p:nvPicPr>
        <p:blipFill>
          <a:blip r:embed=""/>
          <a:stretch/>
        </p:blipFill>
        <p:spPr>
          <a:xfrm>
            <a:off x="1979640" y="360360"/>
            <a:ext cx="575928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00"/>
            </a:gs>
            <a:gs pos="100000">
              <a:srgbClr val="ff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1640" y="360360"/>
            <a:ext cx="874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OMO CREAR UN BL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4319640"/>
            <a:ext cx="66596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oogle             blogger         crear un blog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ratu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60720" y="468000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0360" y="468000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rim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85640" y="1561680"/>
            <a:ext cx="87472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blogger-crear-blog-boton" descr=""/>
          <p:cNvPicPr/>
          <p:nvPr/>
        </p:nvPicPr>
        <p:blipFill>
          <a:blip r:embed=""/>
          <a:stretch/>
        </p:blipFill>
        <p:spPr>
          <a:xfrm>
            <a:off x="1440000" y="1703520"/>
            <a:ext cx="666720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5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Seg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2009-11-23_105706" descr=""/>
          <p:cNvPicPr/>
          <p:nvPr/>
        </p:nvPicPr>
        <p:blipFill>
          <a:blip r:embed=""/>
          <a:stretch/>
        </p:blipFill>
        <p:spPr>
          <a:xfrm>
            <a:off x="1898640" y="1260360"/>
            <a:ext cx="58420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30:18Z</dcterms:created>
  <dc:creator>Rosa </dc:creator>
  <dc:description/>
  <dc:language>en-US</dc:language>
  <cp:lastModifiedBy>Rosa </cp:lastModifiedBy>
  <dcterms:modified xsi:type="dcterms:W3CDTF">2009-12-09T18:07:03Z</dcterms:modified>
  <cp:revision>13</cp:revision>
  <dc:subject/>
  <dc:title/>
</cp:coreProperties>
</file>